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FCB1-6F86-4849-954C-75720BF14E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JAV notarizavimas – sec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2 (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9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p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ektroninio parašo direktyvo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Reikalavimai taikomi saugiam arba patobulintam el. parašui –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Uncitral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 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p. įstatym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 str. 5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str. 3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. Para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7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173-2335-4C16-8512-A152B2B9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98E-23AE-49EE-8A60-A42E1FE6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180-43CF-453E-9756-B7ABA497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FED-602B-4F7D-A2D8-D37D73B3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013E-8BA2-4CE0-AD53-4E3C9198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1C58-99F1-4459-A2F8-BD455003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8797-553F-4D24-AEB2-106E6709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F7A9-75FD-415A-BB09-66CE8C0C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6E0E-3562-42BC-A7C7-5B2C8F8E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C78A-5672-4DA3-BCBD-AA016A3E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9EFA-FA0E-4C35-AEAC-B4FF0540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5CA-0222-4C20-8C06-FCA22BB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6AC1-EDF1-4755-8F1D-E4D50904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A86E-D9C8-4298-AFCE-063166A2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356E-CC32-4E99-92F8-238064CA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7532-2326-45F2-AE81-C6F05EB3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E442-A14F-414E-AEC3-220136E2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690-3A15-4E01-82A8-21C74CBA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2CF-8057-4EC9-8405-7DD677E5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94E-7BCE-4C41-BAF4-79C17096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EA4-3362-4FB1-98F5-BBF4E9EB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0B1-8DBA-4CA0-B47C-03598D28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8DC-2047-4AB7-A4EE-693DC4D1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956-AF51-4469-975D-9BAD331F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-03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3366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D425-97F1-4CE4-8DED-14B701F32B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8B7-5A43-4D55-A071-34B4D5960CF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is paraša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c3300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ugus e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ktroninis parašas, sukurtas saugia parašo formavimo įranga ir patvirtintas galiojančiu kvalifikuotu sertifikatu, elektroniniams duomenims turi tokią pačią teisinę galią kaip ir parašas rašytiniuose (ES – popieriniuose) dokumentuose ir yra priimtinas kaip įrodymas teismo proce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rašas nepraranda teisinės galios dėl to, k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yra elektronin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grįstas kvalifikuotu sertifika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remtas kvalifikuotu sertifikatu, išduotu akredituoto sertifikavimo paslaugų teikėj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sukurtas saugia parašo formavimo įrang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 princip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R Elektroninio parašo įstatym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traipsni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 dalis,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o parašo direktyvos preambulė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unktas, UNCITRAL pavyzdinio įstatymo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straipsn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etaikoma, kai egzistuoja notarizavimo ar registravimo reikalavim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notarizavimas: JAV, Kanados Kvebeko provincija, Prancūz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kaitmeninio parašo naudojimo procedū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webguard02_dsv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ertifik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tas 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ktroninis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iudijimas, kuris susieja pasirašantįjį su parašo tikrinimo duomenimis (ES ir LT - ir patvirtina to asmens tapatyb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vimo paslaugų teikėjas – išduoda sertifikatą, suteikia teisę bet ka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?&gt;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pažinti su jo duomenimis ir teikia susijusias paslau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ertifikavimo paslaugų teikėj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pra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specialių reikalavimų neatitinka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šduodantys kvalifikuotus sertifik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aiškią teisinę galią turi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kredituo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vanoriškai gavę valstybės patvirtinimą, kad atitinka keliamus reikalavim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valifikuotų sertifikatų  išd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ietuv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ūtinas registravi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Registruotų paslaugų teikėjų išduoti sertifikatai naudojami tik susirašinėjimui su valstybės ir savivaldybių institucijom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Sąjung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ik savanoriškas akreditavimas – kiekvienas leidimas, susijęs su sertifikavimo paslaugų teikimu, suteiktas sertifikavimo paslaugų teikėjo prašy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šankstinių leidimų sistema draudži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Preambulė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, 12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 punktai, Direktyvo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t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paslaugų teikėjas atitinka bendrus     reikalavimus ir savanoriškai akreditavosi ES arba Lietuvoje (netaikomas registravimosi reikalav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sertifikatas garantuotas ES (Lietuvoje) veikiančio sertifikavimo paslaugų teikėjo, atitinkančio reikalavimus, nustatytus kvalifikuotiems tiekėj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 pagal tarptautinę sutart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CITR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diskriminavimas geografiniu pagrin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uri būti pripažintas, jei garantuoja pakankamai lygiavertį patikimumo lyg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Šalių susitarimo pripažin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m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ampr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reguliavimo bū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g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kaitmeninio parašo naudojimo procedū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ert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žsienio sertifikatų pripaž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ampr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parašas suprantamas kaip duomenys, kurie susiejami su kitais (pasirašomais) elektroniniais duomenimis ir atlieka pasirašiusio asmens identifikavimo funkciją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UNCITRAL 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r liudija, kad asmuo patvirtino pasirašytą informaciją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ardo ir ar pavardės nurod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N (Židrūnas Šapalas v. AB “Lietuvos taupomasis bank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Kriptografinės priemonės (skaitmeninis paraš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iometrinės priemonė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reguliavimo būd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škai neutr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ios technologijo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bstraktus elektroninio parašo galimybė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vyzdžiai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Kalifornijos valst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federalini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škai neutralus (dualistinis)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statymas nesusietų su konkrečia technologija reikalavimų, kurie užtikrina, kad elektroninis parašas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ir LT -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ugus ar patobulintas (advanced)) patikimai funkciškai atitiktų paprastą paraš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CITRAL pavyzdinis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direkty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ikalavimai saugiam el. paraš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ik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Vienareikšmiškai susietas su pasirašančiu asmeni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avima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eidžia identifikuoti pasirašantį asmen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aug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kurtas priemonėmis, kurias gali tvarkyti tik pasirašantis asmuo savo val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ntegr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sijęs su pasirašytais duomenimis taip, kad bet koks šių duomenų pakeitimas yra pastebi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 –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galimybė pastebėti bet kokį parašo pakitim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ios technologijos įtvir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s tik 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skaitmeninis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paraš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s parašas, kuris kuriamas naudojant viešojo rakto technologiją (PKI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irmasis reguliavimo bū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JAV Jutos valst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rgentin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alaiz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ksčiau - Vokiet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ik fizinis asmu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, Bulgarijos Elektroninio dokumento ir elektroninio parašo įstatymas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r fiziniai, ir juridiniai asme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, UNCITRAL, Slovėn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ecialu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tstovaujamojo (pvz., j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ridinio asmen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 teisė kontroliuoti sertifikatus, kuriuose yra informacijos apie jį (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etuva,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lovėn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Juridinio asmens atstovo para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šo prilyginimas parašui ir antspaud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6:19:43Z</dcterms:created>
  <dc:creator>tomlmn</dc:creator>
  <dc:description/>
  <dc:language>en-US</dc:language>
  <cp:lastModifiedBy>tlamanauskas</cp:lastModifiedBy>
  <dcterms:modified xsi:type="dcterms:W3CDTF">2004-11-22T09:36:52Z</dcterms:modified>
  <cp:revision>27</cp:revision>
  <dc:subject/>
  <dc:title>Savireguliacija Interne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25289306</vt:r8>
  </property>
  <property fmtid="{D5CDD505-2E9C-101B-9397-08002B2CF9AE}" pid="3" name="_AuthorEmail">
    <vt:lpwstr>tlamanauskas@rrt.lt</vt:lpwstr>
  </property>
  <property fmtid="{D5CDD505-2E9C-101B-9397-08002B2CF9AE}" pid="4" name="_AuthorEmailDisplayName">
    <vt:lpwstr>Tomas Lamanauskas</vt:lpwstr>
  </property>
  <property fmtid="{D5CDD505-2E9C-101B-9397-08002B2CF9AE}" pid="5" name="_EmailSubject">
    <vt:lpwstr>Del Informatikos Teisiu konspektu</vt:lpwstr>
  </property>
</Properties>
</file>